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73E-16B3-42E9-B9D5-CFADE5A3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5A4-44CE-43D8-8C0A-DA2782C2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B4A-DD3F-47FA-949A-5F223545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C0A-5FFA-40CA-AFD6-44485F66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85F-4DCA-4DFB-B4F9-C9BEE806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1FB-FD6C-4D78-9131-9D785A6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8F0-966E-434A-9789-421F2AF8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F1F-A831-4D70-AEC1-8FD2BBEC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BAE-2339-4458-85C7-73B395CC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85F-F855-4518-8D26-45CB95F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C86-8F2D-42F0-88A5-194A0DBC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402-97BE-412C-9598-18A2584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411E-89AB-4F49-AAB5-922C7BC3F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127" t="17699" r="6250" b="18753"/>
          <a:stretch/>
        </p:blipFill>
        <p:spPr>
          <a:xfrm>
            <a:off x="0" y="762120"/>
            <a:ext cx="89154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467" t="9376" r="8594" b="12502"/>
          <a:stretch/>
        </p:blipFill>
        <p:spPr>
          <a:xfrm>
            <a:off x="0" y="22860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6482" t="11788" r="6482" b="19186"/>
          <a:stretch/>
        </p:blipFill>
        <p:spPr>
          <a:xfrm>
            <a:off x="0" y="68580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032" t="9376" r="7811" b="13540"/>
          <a:stretch/>
        </p:blipFill>
        <p:spPr>
          <a:xfrm>
            <a:off x="0" y="122400"/>
            <a:ext cx="91440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4065" t="31250" r="57813" b="37501"/>
          <a:stretch/>
        </p:blipFill>
        <p:spPr>
          <a:xfrm>
            <a:off x="914400" y="254160"/>
            <a:ext cx="6934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3282" t="28218" r="57813" b="39588"/>
          <a:stretch/>
        </p:blipFill>
        <p:spPr>
          <a:xfrm>
            <a:off x="533520" y="228600"/>
            <a:ext cx="75438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282" t="23960" r="59378" b="43752"/>
          <a:stretch/>
        </p:blipFill>
        <p:spPr>
          <a:xfrm>
            <a:off x="838080" y="378000"/>
            <a:ext cx="7315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0:54:28Z</dcterms:created>
  <dc:creator>nbdoe</dc:creator>
  <dc:description/>
  <dc:language>en-US</dc:language>
  <cp:lastModifiedBy>nbdoe</cp:lastModifiedBy>
  <dcterms:modified xsi:type="dcterms:W3CDTF">2007-03-21T01:16:20Z</dcterms:modified>
  <cp:revision>3</cp:revision>
  <dc:subject/>
  <dc:title>Slide 1</dc:title>
</cp:coreProperties>
</file>